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12720-B893-4B49-98A7-ABA967A33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58593-D64A-4CD3-B170-3B1F0F2D4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422B5-E828-41FE-B24A-A00EF4FF8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F6BF7-FB93-43EF-94EF-1F5F683C7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7347E-87B1-42AC-9131-36FA7E9BE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C5251-B5B3-486A-A909-458D01BBD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786DE-D932-4419-9672-43F324295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5049C-9987-4505-B782-1909D4A7D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ABA96-CBD2-4A65-BBE0-5B9E97BDD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F6E1C-FEA8-4F21-8EDA-CAE5561C3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476F3-AC81-4C9A-8DA2-D050074C2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88F17-AAF4-4058-8C79-0C8AFCE3E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4D076-E334-4D8E-B6A4-46539CC751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mension aggreg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447048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ggregation of each me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ducts &amp; region dimensions have member hierarc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257800" y="1752480"/>
            <a:ext cx="3633840" cy="3699000"/>
          </a:xfrm>
          <a:prstGeom prst="rect">
            <a:avLst/>
          </a:prstGeom>
          <a:ln cap="sq" w="12600">
            <a:solidFill>
              <a:srgbClr val="000000"/>
            </a:solidFill>
            <a:miter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04920" y="3733920"/>
            <a:ext cx="5354640" cy="2396880"/>
          </a:xfrm>
          <a:prstGeom prst="rect">
            <a:avLst/>
          </a:prstGeom>
          <a:ln cap="sq"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armaceutical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343400" y="1752480"/>
            <a:ext cx="4356000" cy="4407120"/>
          </a:xfrm>
          <a:prstGeom prst="rect">
            <a:avLst/>
          </a:prstGeom>
          <a:ln cap="sq" w="12600">
            <a:solidFill>
              <a:srgbClr val="000000"/>
            </a:solidFill>
            <a:miter/>
          </a:ln>
        </p:spPr>
      </p:pic>
      <p:sp>
        <p:nvSpPr>
          <p:cNvPr id="47" name=""/>
          <p:cNvSpPr/>
          <p:nvPr/>
        </p:nvSpPr>
        <p:spPr>
          <a:xfrm>
            <a:off x="177840" y="1652760"/>
            <a:ext cx="3936960" cy="44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 periods for used dimen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 dimensions per contex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(Charlie’s aggregation example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wo dimensions to che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ll require checking of aggregation f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duct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ion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ula shown for product dimens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region is same except for dimension nam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monstrates mixed explicit/implicit dimension filte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duct dimension che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04920" y="1066680"/>
            <a:ext cx="8381880" cy="557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1T01:41:00Z</dcterms:created>
  <dc:creator>Herm Fischer</dc:creator>
  <dc:description/>
  <dc:language>en-US</dc:language>
  <cp:lastModifiedBy>Herm Fischer</cp:lastModifiedBy>
  <dcterms:modified xsi:type="dcterms:W3CDTF">2007-10-01T01:42:19Z</dcterms:modified>
  <cp:revision>1</cp:revision>
  <dc:subject/>
  <dc:title>Dimension aggregation</dc:title>
</cp:coreProperties>
</file>