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1EA3-BEEB-41D7-8894-EFD792102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A210-BC0E-4D4C-AFDE-E77D9E07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0FFB-ADFA-4652-8AA2-90512E408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819D-AE9D-4459-BBC0-27AE3534E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4A7C-BC39-425E-BBB6-F159FB87B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BB7F-7EB1-4FB2-BD6F-82561CA4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957D-BB62-44FE-A811-774F204C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267D-566F-4053-BE73-F46E29D5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F72D-16FA-4B35-B318-D65392EF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ABF8-9ADB-4EB5-942F-08EF2131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C020-62A5-4D12-972A-8B05C934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55F6-1298-4F99-9262-7911CAC8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CBC2-A06F-4BF1-AD89-1542D8BE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BA2E-C74C-4C89-AA9E-CC214089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B08BB-E107-4CA2-AA13-51A8DD77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13A6-7BB4-4FD4-B8CA-B4B6A22AB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A6D7-D952-47C7-AA63-4C76EC17F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1189-DDF2-4352-BF90-936E7E01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0806-C4CF-4110-A18E-FEC3468D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D9BB-A5B9-49F3-BF02-F0EDE5D4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082B-A889-433F-96C5-0CBF5A29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57F4-03BB-40D5-B4D2-E2AADA50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921D-C55D-4874-AC36-D1513F09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FC11-49D3-4D40-9EA2-9D9EC86B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8D4A-D5C0-4B8C-B55C-60EA289C9A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73AB-1FE6-4D6A-9673-E06D46A3B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22068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EP Use case 18: Weighted average of member childre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85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eighted average of its dimensional children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y another primary it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86000" y="2332080"/>
            <a:ext cx="4038480" cy="148104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57200" y="3886200"/>
            <a:ext cx="8001000" cy="23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3E8F-C69C-4223-A4CA-E3DC7FBD32A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xcel formula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ke PD controlling fact, get PD and EV of dimensional childr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eneral variable for PDxEV member match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83818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6942-7D60-45E2-B156-AF2205CBF1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868680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9E1A-ACF1-4EE0-A261-F2CA406815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1:50:03Z</dcterms:modified>
  <cp:revision>197</cp:revision>
  <dc:subject/>
  <dc:title>Materials preparation</dc:title>
</cp:coreProperties>
</file>