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C084-99A3-4F3F-9107-831130DF2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AB63-13B7-439C-9FBF-6079075F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D3B2-B52B-4D52-B166-4A001702D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21E8-1141-47FB-A137-10C4E7A28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85E9-2B51-44A1-8E46-F7BEDDC63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36C7-DE09-453B-8747-F7FBC894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9B15-3D88-4FC4-83C5-45E88C0A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D891-9ABF-46D5-B28E-321602DE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7C05-4238-4456-A2FC-4518CA01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25AA-BA7C-4528-A7CB-A7FFDBF2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6656-324B-456A-97F7-F201DE67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D625-1BCD-4A8A-9E55-87E889B3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AA5D-06DD-4F6F-9B6D-0EE65392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ACFA-2B1B-4E7D-B145-E27E649A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2F53-41A5-4F10-941C-2218B69E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2744-1117-4E5F-BDBF-3EFC70613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22D7-8FA8-40F1-A6DE-739F0C466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BBD3-85D6-449D-BF3E-B0C2BDFE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7F26-1900-4047-AA0F-7052B0DA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8C14-0B7E-4495-8E1E-E07B7546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B804-9E38-4A4A-A948-D39D61C9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0CF2-AD5E-4312-84CB-B82C6F8F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61AC-44A9-46DA-9B63-F8177D2D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3E59-4FEE-4B36-A3E6-EB3CBBFF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B7AD-DC31-4DA3-9D4F-2E2DEE22D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D454-C392-4C67-9EF3-D1DA7D96D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22068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EP Use case 18: Weighted average of member childre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85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ighted average of its dimensional children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y another primary i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0" y="2332080"/>
            <a:ext cx="4038480" cy="148104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8001000" cy="23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719A-F69C-4AAA-8323-C4312CB71F2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xcel formula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ke PD controlling fact, get PD and EV of dimensional childr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eneral variable for PDxEV member match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83818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0477-B12A-468B-875A-1585AAC3BB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6868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AEDB-6619-48AB-9B05-2E4A59F8B6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1:50:03Z</dcterms:modified>
  <cp:revision>197</cp:revision>
  <dc:subject/>
  <dc:title>Materials preparation</dc:title>
</cp:coreProperties>
</file>